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3FC-DBE8-4996-B9AB-D1D4B0AE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7D9-3664-4B89-8354-C05196E6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D34-3832-4790-B393-56B7F59B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2EF-825B-4E43-957E-BE4C3FC2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33C-34AA-4A5A-B29E-134C8781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DF2-0A37-48AA-BDE4-44B3813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464-1965-4DCE-9332-6B18A5AA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FBD-AC77-4707-9742-5E63FD47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CAA-013A-46A0-9369-F7B6C984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4B2-D36A-4053-8924-2651763A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574-49B5-478C-BA2B-9C434F8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070-51AA-4BE7-9996-9CF48E9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16A3-0BE8-4C63-8ABB-31DCA5C40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c00000"/>
                </a:solidFill>
                <a:latin typeface="Arial"/>
              </a:rPr>
              <a:t>CREATING A CAREER PLANNING PORTFOL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owner\AppData\Local\Microsoft\Windows\Temporary Internet Files\Content.IE5\MGPQKUQY\MC910217613[1].wmf"/>
          <p:cNvPicPr/>
          <p:nvPr/>
        </p:nvPicPr>
        <p:blipFill>
          <a:blip r:embed="rId1"/>
          <a:stretch/>
        </p:blipFill>
        <p:spPr>
          <a:xfrm>
            <a:off x="2514600" y="2763720"/>
            <a:ext cx="373392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6600"/>
                </a:solidFill>
                <a:latin typeface="Calibri"/>
              </a:rPr>
              <a:t>ACADEMIC AND TECHNICAL SKILLS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Transcript or Report Card</a:t>
            </a: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Awa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Best Work Examp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Samples of Computer Skil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Project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Other cour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Letters of Reference, Thank you ca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Cj01346290000[1]"/>
          <p:cNvPicPr/>
          <p:nvPr/>
        </p:nvPicPr>
        <p:blipFill>
          <a:blip r:embed="rId1"/>
          <a:stretch/>
        </p:blipFill>
        <p:spPr>
          <a:xfrm>
            <a:off x="7010280" y="1371600"/>
            <a:ext cx="1595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2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c00000"/>
                </a:solidFill>
                <a:latin typeface="Calibri"/>
              </a:rPr>
              <a:t>PERSONAL MANAGEMENT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Organiz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Goal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Managing time an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Taking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Being flex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owner\AppData\Local\Microsoft\Windows\Temporary Internet Files\Content.IE5\S6UAZJK0\MCj03634780000[1].wmf"/>
          <p:cNvPicPr/>
          <p:nvPr/>
        </p:nvPicPr>
        <p:blipFill>
          <a:blip r:embed="rId1"/>
          <a:stretch/>
        </p:blipFill>
        <p:spPr>
          <a:xfrm>
            <a:off x="6934320" y="4267080"/>
            <a:ext cx="1674720" cy="213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owner\AppData\Local\Microsoft\Windows\Temporary Internet Files\Content.IE5\2D3BN2NL\MCj01500240000[1].wmf"/>
          <p:cNvPicPr/>
          <p:nvPr/>
        </p:nvPicPr>
        <p:blipFill>
          <a:blip r:embed="rId2"/>
          <a:stretch/>
        </p:blipFill>
        <p:spPr>
          <a:xfrm>
            <a:off x="4876920" y="1600200"/>
            <a:ext cx="21873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00000"/>
                </a:solidFill>
                <a:latin typeface="Calibri"/>
              </a:rPr>
              <a:t>PERSONAL MANAGEMENT SKILLS</a:t>
            </a:r>
            <a:br>
              <a:rPr sz="4000"/>
            </a:br>
            <a:r>
              <a:rPr b="1" lang="en-CA" sz="4000" spc="-1" strike="noStrike">
                <a:solidFill>
                  <a:srgbClr val="c00000"/>
                </a:solidFill>
                <a:latin typeface="Calibri"/>
              </a:rPr>
              <a:t>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Occupation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Post Secondary Research</a:t>
            </a:r>
            <a:r>
              <a:rPr b="0" lang="en-US" sz="3000" spc="-1" strike="noStrike">
                <a:solidFill>
                  <a:srgbClr val="3366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Job Descri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Weekly/Daily  Schedule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Work Experience/RAP/Other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Activities you have helped organ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Community Involvement/Volunte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Future Goals and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Reference Letters</a:t>
            </a:r>
            <a:r>
              <a:rPr b="0" lang="en-US" sz="3000" spc="-1" strike="noStrike">
                <a:solidFill>
                  <a:srgbClr val="3366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owner\AppData\Local\Microsoft\Windows\Temporary Internet Files\Content.IE5\FO30I770\MCBL00522_0000[1].wmf"/>
          <p:cNvPicPr/>
          <p:nvPr/>
        </p:nvPicPr>
        <p:blipFill>
          <a:blip r:embed="rId1"/>
          <a:stretch/>
        </p:blipFill>
        <p:spPr>
          <a:xfrm>
            <a:off x="6248520" y="1676520"/>
            <a:ext cx="2219040" cy="159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owner\AppData\Local\Microsoft\Windows\Temporary Internet Files\Content.IE5\2D3BN2NL\MCj03341520000[1].wmf"/>
          <p:cNvPicPr/>
          <p:nvPr/>
        </p:nvPicPr>
        <p:blipFill>
          <a:blip r:embed="rId2"/>
          <a:stretch/>
        </p:blipFill>
        <p:spPr>
          <a:xfrm>
            <a:off x="6400800" y="4876920"/>
            <a:ext cx="12477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6600"/>
                </a:solidFill>
                <a:latin typeface="Calibri"/>
              </a:rPr>
              <a:t>TEAMWORK/LEADERSHIP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Working with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Cooperating to reach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Respecting the views and opinion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dvising/Helping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L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Cj01208850000[1]"/>
          <p:cNvPicPr/>
          <p:nvPr/>
        </p:nvPicPr>
        <p:blipFill>
          <a:blip r:embed="rId1"/>
          <a:stretch/>
        </p:blipFill>
        <p:spPr>
          <a:xfrm>
            <a:off x="6324480" y="3657600"/>
            <a:ext cx="19656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6600"/>
                </a:solidFill>
                <a:latin typeface="Calibri"/>
              </a:rPr>
              <a:t>TEAMWORK/LEADERSHIP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Group Activities and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Teams and Clu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Year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Student Counc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Gr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Community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Fund Rai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Cultural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Letters/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MCj02304000000[1]"/>
          <p:cNvPicPr/>
          <p:nvPr/>
        </p:nvPicPr>
        <p:blipFill>
          <a:blip r:embed="rId1"/>
          <a:stretch/>
        </p:blipFill>
        <p:spPr>
          <a:xfrm>
            <a:off x="7162920" y="2438280"/>
            <a:ext cx="14936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Calibri"/>
              </a:rPr>
              <a:t>FOR EACH ENTRY OR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ROUGH REFLECTION OR USING A SKILLS TEMPLATE, INDICATE WHAT GOALS YOU INTENDED TO ACHIEVE AND TO WHAT EXTENT THIS ACTIVITY ACHIEVED THESE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Calibri"/>
              </a:rPr>
              <a:t>Why did you include this item in your portfolio – how does it represent your skills, goals and va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:\Users\owner\AppData\Local\Microsoft\Windows\Temporary Internet Files\Content.IE5\R6K5S5FH\MC900281206[1].wmf"/>
          <p:cNvPicPr/>
          <p:nvPr/>
        </p:nvPicPr>
        <p:blipFill>
          <a:blip r:embed="rId1"/>
          <a:stretch/>
        </p:blipFill>
        <p:spPr>
          <a:xfrm>
            <a:off x="6095880" y="533520"/>
            <a:ext cx="151128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Arial"/>
              </a:rPr>
              <a:t>SUCCES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MCj03974440000[1]"/>
          <p:cNvPicPr/>
          <p:nvPr/>
        </p:nvPicPr>
        <p:blipFill>
          <a:blip r:embed="rId1"/>
          <a:stretch/>
        </p:blipFill>
        <p:spPr>
          <a:xfrm>
            <a:off x="3276720" y="4191120"/>
            <a:ext cx="2666880" cy="216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MCj02377750000[1]"/>
          <p:cNvPicPr/>
          <p:nvPr/>
        </p:nvPicPr>
        <p:blipFill>
          <a:blip r:embed="rId2"/>
          <a:stretch/>
        </p:blipFill>
        <p:spPr>
          <a:xfrm>
            <a:off x="1066680" y="380880"/>
            <a:ext cx="2667240" cy="2643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Cj04061840000[1]"/>
          <p:cNvPicPr/>
          <p:nvPr/>
        </p:nvPicPr>
        <p:blipFill>
          <a:blip r:embed="rId3"/>
          <a:stretch/>
        </p:blipFill>
        <p:spPr>
          <a:xfrm>
            <a:off x="5791320" y="304920"/>
            <a:ext cx="2582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alibri"/>
              </a:rPr>
              <a:t>CAREER PLANNING PORTFO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What is a CAREER PLANNING Portfol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Why Do a Career Planning Portfol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Creating My Career planning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Organizing My Career Planning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Pause and Refl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j00786260000[1]"/>
          <p:cNvPicPr/>
          <p:nvPr/>
        </p:nvPicPr>
        <p:blipFill>
          <a:blip r:embed="rId1"/>
          <a:stretch/>
        </p:blipFill>
        <p:spPr>
          <a:xfrm>
            <a:off x="7086600" y="3809880"/>
            <a:ext cx="2057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WHAT IS A PORTFOL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alibri"/>
              </a:rPr>
              <a:t>PORT - TO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alibri"/>
              </a:rPr>
              <a:t>FOLIO –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INANCIAL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RT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NGLISH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AREER PLANNING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Users\owner\AppData\Local\Microsoft\Windows\Temporary Internet Files\Content.IE5\RMSHDGWR\MC900250288[1].wmf"/>
          <p:cNvPicPr/>
          <p:nvPr/>
        </p:nvPicPr>
        <p:blipFill>
          <a:blip r:embed="rId1"/>
          <a:stretch/>
        </p:blipFill>
        <p:spPr>
          <a:xfrm>
            <a:off x="5257800" y="2743200"/>
            <a:ext cx="315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WHY A CAREER PLANNING PORTFOL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875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rovides a record of all career plann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hroughout high school  including self assessm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d occupation &amp; post secondary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roves growth in skills &amp; accomplishm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organizes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elps you understand your values, interests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trengths and reflect on appropriate career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s well as areas for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Use it as a tool for demonstrating personal qualities, ski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nd plans in an interview – job, scholarship, post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Users\owner\AppData\Local\Microsoft\Windows\Temporary Internet Files\Content.IE5\RMSHDGWR\MC900441902[1].wmf"/>
          <p:cNvPicPr/>
          <p:nvPr/>
        </p:nvPicPr>
        <p:blipFill>
          <a:blip r:embed="rId1"/>
          <a:stretch/>
        </p:blipFill>
        <p:spPr>
          <a:xfrm>
            <a:off x="7623000" y="304920"/>
            <a:ext cx="15210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00"/>
                </a:solidFill>
                <a:uFillTx/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A Collection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A Binder, and/or a C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Certificates, Awards, Job Evi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Best Work, Etc., Etc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Pictures, Pictures,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Page Pro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3797570000[1]"/>
          <p:cNvPicPr/>
          <p:nvPr/>
        </p:nvPicPr>
        <p:blipFill>
          <a:blip r:embed="rId1"/>
          <a:stretch/>
        </p:blipFill>
        <p:spPr>
          <a:xfrm>
            <a:off x="5257800" y="4343400"/>
            <a:ext cx="2597040" cy="222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MCj02372440000[1]"/>
          <p:cNvPicPr/>
          <p:nvPr/>
        </p:nvPicPr>
        <p:blipFill>
          <a:blip r:embed="rId2"/>
          <a:stretch/>
        </p:blipFill>
        <p:spPr>
          <a:xfrm>
            <a:off x="7238880" y="609480"/>
            <a:ext cx="1535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D06675_"/>
          <p:cNvPicPr/>
          <p:nvPr/>
        </p:nvPicPr>
        <p:blipFill>
          <a:blip r:embed="rId1"/>
          <a:stretch/>
        </p:blipFill>
        <p:spPr>
          <a:xfrm>
            <a:off x="533520" y="1828800"/>
            <a:ext cx="1218960" cy="1295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2514600" y="23684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TEP 1: SELF ASSESSMEN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AREE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D06663_"/>
          <p:cNvPicPr/>
          <p:nvPr/>
        </p:nvPicPr>
        <p:blipFill>
          <a:blip r:embed="rId2"/>
          <a:stretch/>
        </p:blipFill>
        <p:spPr>
          <a:xfrm>
            <a:off x="5562720" y="342900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447920" y="3961080"/>
            <a:ext cx="426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STEP 2: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ATHER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EVID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S00559_"/>
          <p:cNvPicPr/>
          <p:nvPr/>
        </p:nvPicPr>
        <p:blipFill>
          <a:blip r:embed="rId3"/>
          <a:stretch/>
        </p:blipFill>
        <p:spPr>
          <a:xfrm>
            <a:off x="609480" y="510552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048120" y="544896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TEP 3: ORGANIZ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80880" y="12801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STEP 4: ARRANGE</a:t>
            </a:r>
            <a:r>
              <a:rPr b="1" lang="en-US" sz="1400" spc="-1" strike="noStrike">
                <a:solidFill>
                  <a:srgbClr val="3366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76720" y="280764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TEP 5: DEVELOP REFLECTIVE/SKILL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533520" y="5637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STEP 6: ADD AND R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owner\AppData\Local\Microsoft\Windows\Temporary Internet Files\Content.IE5\RMSHDGWR\MCj04134600000[1].wmf"/>
          <p:cNvPicPr/>
          <p:nvPr/>
        </p:nvPicPr>
        <p:blipFill>
          <a:blip r:embed="rId1"/>
          <a:stretch/>
        </p:blipFill>
        <p:spPr>
          <a:xfrm>
            <a:off x="4572000" y="4191120"/>
            <a:ext cx="2219400" cy="235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owner\AppData\Local\Microsoft\Windows\Temporary Internet Files\Content.IE5\MGPQKUQY\MC900366636[1].wmf"/>
          <p:cNvPicPr/>
          <p:nvPr/>
        </p:nvPicPr>
        <p:blipFill>
          <a:blip r:embed="rId2"/>
          <a:stretch/>
        </p:blipFill>
        <p:spPr>
          <a:xfrm>
            <a:off x="4572000" y="1255680"/>
            <a:ext cx="2514600" cy="1359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:\Users\owner\AppData\Local\Microsoft\Windows\Temporary Internet Files\Content.IE5\QXY2AMDI\MC900056928[1].wmf"/>
          <p:cNvPicPr/>
          <p:nvPr/>
        </p:nvPicPr>
        <p:blipFill>
          <a:blip r:embed="rId3"/>
          <a:stretch/>
        </p:blipFill>
        <p:spPr>
          <a:xfrm>
            <a:off x="380880" y="2638440"/>
            <a:ext cx="3079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Calibri"/>
              </a:rPr>
              <a:t>THIS IS 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03280" y="2349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7652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vantGarde Bk BT"/>
              </a:rPr>
              <a:t>What am I goo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700360" y="4343400"/>
            <a:ext cx="56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vantGarde Bk BT"/>
              </a:rPr>
              <a:t>What is importan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564000" y="525780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vantGarde Bk BT"/>
              </a:rPr>
              <a:t>What do I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MCj03974800000[1]"/>
          <p:cNvPicPr/>
          <p:nvPr/>
        </p:nvPicPr>
        <p:blipFill>
          <a:blip r:embed="rId1"/>
          <a:stretch/>
        </p:blipFill>
        <p:spPr>
          <a:xfrm>
            <a:off x="230040" y="3809880"/>
            <a:ext cx="1979640" cy="245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MCj03981450000[1]"/>
          <p:cNvPicPr/>
          <p:nvPr/>
        </p:nvPicPr>
        <p:blipFill>
          <a:blip r:embed="rId2"/>
          <a:stretch/>
        </p:blipFill>
        <p:spPr>
          <a:xfrm>
            <a:off x="6477120" y="2217600"/>
            <a:ext cx="2361960" cy="22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6600"/>
                </a:solidFill>
                <a:latin typeface="Arial"/>
              </a:rPr>
              <a:t>ACADEMIC AND TECHNICAL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Communicat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Managing Information, including technic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inform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Using numerical skil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Using 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Being creativ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Being able to think and solve problem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6572160" y="3357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7:17:19Z</dcterms:created>
  <dc:creator>Norma Thompson</dc:creator>
  <dc:description/>
  <dc:language>en-US</dc:language>
  <cp:lastModifiedBy>owner</cp:lastModifiedBy>
  <dcterms:modified xsi:type="dcterms:W3CDTF">2010-11-22T21:52:39Z</dcterms:modified>
  <cp:revision>54</cp:revision>
  <dc:subject/>
  <dc:title>CREATING A  CAREER PLANNING PORTFOLIO</dc:title>
</cp:coreProperties>
</file>